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795-2166-48BF-BE05-8616FC6E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06A-1D29-481F-B511-A9C39321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FE9-3032-4DFB-AFF0-B859134A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8DC-5EBB-48E4-AD67-5BEEFB2A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0D17-2DCA-4C82-9E96-51216734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568-BEC3-4E4C-9F03-C3386DFB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2ECA-255B-4E1B-9E52-1F123951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000-5168-4FD3-83CF-31D2018B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85D2-8D67-45EF-A727-501D0AA6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8D0-08CB-42E4-BD2B-8E4A0C21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8C6-587F-4776-88CB-CCECE96A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61A-E614-4172-A7C2-8B103D9A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B0BB-5C7D-450A-8543-8C98188F5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oursin_cheese" TargetMode="External"/><Relationship Id="rId2" Type="http://schemas.openxmlformats.org/officeDocument/2006/relationships/hyperlink" Target="http://en.wikipedia.org/wiki/Emmental_cheese" TargetMode="External"/><Relationship Id="rId3" Type="http://schemas.openxmlformats.org/officeDocument/2006/relationships/hyperlink" Target="http://en.wikipedia.org/wiki/Emmental_cheese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ff99"/>
                </a:solidFill>
                <a:latin typeface="Freestyle Script"/>
              </a:rPr>
              <a:t>Dites Fromage !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reestyle Script"/>
              </a:rPr>
              <a:t>Artisinal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563868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ducer producing cheese in relatively small quantities using milk from their own farm, but may also purchase milk from local far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94360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228600" y="3809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reestyle Script"/>
              </a:rPr>
              <a:t>Coopérativ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50752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dairy with local milk producers in an area that have joined to produce cheese. In larger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oopérativ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quantities of cheese produced may be relatively large, akin to som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dustri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roducers (many may be classed as factory-m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Industriel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actory-made cheese from milk sourced locally or regionally, perhaps all over France (depending on the AOC/PDO regulations for specific cheeses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4114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361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A country producing almost 360 different types of cheese cannot die."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inston Churchill 19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Comment voulez-vous gouverner un pays qui a deux cent quarante-six variétés de fromage?"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"How can you govern a country which has two hundred and forty-six varieties of cheese?")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harles de Gaulle 19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Un repas sans fromage est une belle à qui il manque un œil."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"A meal without cheese is a beautiful woman with an eye missing.")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Brillat Savar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Freestyle Script"/>
              </a:rPr>
              <a:t>L’Origine du Mo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es from Latin word caseus; modern word casein is closely de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recently comes from Old English word che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Romans began to make hard cheeses for their legionaries' supplies, a new word started to be use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rmatic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rom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aseus forma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r "molded cheese" (as in "formed", not "moldy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where FROMAGE (cheese en français) deriv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4960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L’Histoire du From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4572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s predate recorded his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s of specific place are unknown, but became a sophisticated practice during the Roman era, throughout the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of cheese making most likely dates back to when cows and goats were domesticated (8000 to 3000 B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likely was discovered accidentally when milk was stored in the stomach of an animal resulting in milk turning to curd and whey by stomach ren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Vrai ou Faux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st archeological evidence of cheese making has been found in Egyptian tomb mu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3657600"/>
            <a:ext cx="579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VRA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Post-Classical Europ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 throughout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ese type diversified after the collapse of the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local varieties came about as artisans created new traditions an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3248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Le Fromage França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ly there are 350-400 French che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 there are more than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French cheeses are protected under strict  French laws, as to not  to be replicated (or names taken) from other places in the wor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Freestyle Script"/>
              </a:rPr>
              <a:t>Appellation d’Origine            </a:t>
            </a:r>
            <a:r>
              <a:rPr b="1" lang="fr-FR" sz="8000" spc="-1" strike="noStrike">
                <a:solidFill>
                  <a:srgbClr val="000000"/>
                </a:solidFill>
                <a:latin typeface="Freestyle Script"/>
              </a:rPr>
              <a:t>	</a:t>
            </a:r>
            <a:r>
              <a:rPr b="1" lang="fr-FR" sz="8000" spc="-1" strike="noStrike">
                <a:solidFill>
                  <a:srgbClr val="000000"/>
                </a:solidFill>
                <a:latin typeface="Freestyle Script"/>
              </a:rPr>
              <a:t>	</a:t>
            </a:r>
            <a:r>
              <a:rPr b="1" lang="fr-FR" sz="8000" spc="-1" strike="noStrike">
                <a:solidFill>
                  <a:srgbClr val="000000"/>
                </a:solidFill>
                <a:latin typeface="Freestyle Script"/>
              </a:rPr>
              <a:t>	</a:t>
            </a:r>
            <a:r>
              <a:rPr b="1" lang="fr-FR" sz="8000" spc="-1" strike="noStrike">
                <a:solidFill>
                  <a:srgbClr val="000000"/>
                </a:solidFill>
                <a:latin typeface="Freestyle Script"/>
              </a:rPr>
              <a:t>Contrôlée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eeses which come from specific geographical orig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common Agricultural Policy of the European Union (Protected Designation of Origin or P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nch cheese is classified under four catego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and PDO dictate the categories under which the cheese is 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4541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1936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reestyle Script"/>
              </a:rPr>
              <a:t>Le Fromage Françai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685800"/>
            <a:ext cx="4343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6 cheeses are classified, protected, and regulated under French la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jority are classified as AOC, the highest level of prot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also protected under the less stringent but still legally regulated designation Label Régional (L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French cheeses are protected under the EU’s Protected Geographic Indication designation (PG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amiliar generic types, lik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urs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not covered. It may come as a surprise to see varieties of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mmental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chee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rotected as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ren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ee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419720" y="2286000"/>
            <a:ext cx="44956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Freestyle Script"/>
              </a:rPr>
              <a:t>Fermier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armhouse cheese produced on the farm where the milk is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more expensive because it is not mass produc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scale production drives high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ade with raw milk, it is not heated over 37 degrees Celsius, and it keeps all its prope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857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00:36:32Z</dcterms:created>
  <dc:creator>asmith</dc:creator>
  <dc:description/>
  <dc:language>en-US</dc:language>
  <cp:lastModifiedBy>asmith</cp:lastModifiedBy>
  <dcterms:modified xsi:type="dcterms:W3CDTF">2010-09-27T22:30:43Z</dcterms:modified>
  <cp:revision>3</cp:revision>
  <dc:subject/>
  <dc:title>Dites Fromage ! </dc:title>
</cp:coreProperties>
</file>